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wmf" ContentType="image/x-wmf"/>
  <Override PartName="/ppt/media/LATIGO.WAV" ContentType="audio/x-wav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E4E6-1878-46C1-B2F1-BA628C24DE8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C1F-CC98-45DA-A267-F8EF95BA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327-7F97-4F6D-8BD3-13D38D5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51973-11C0-478B-A2B6-E16277E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68615-BFF7-4206-8DB4-33AEB2E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82D21-630F-495E-BD03-DB62E357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3120-3291-472F-842D-B437781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0E007-70D9-4B6C-93DF-0575C84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5B641-10A4-4A5C-BDEA-FE2BD8F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0D7CC-5695-47F2-BEB7-0D6495E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7E13E-369D-4165-940C-D78689BC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121F8-C588-401E-87FC-D0F73691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A342C-7CB2-4FA0-8665-77B3AA34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A3E-3FAD-4AB9-BE08-02561D81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67F5C-7EA1-46E7-BFD5-F712126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AC27-A301-4DC3-BAE5-79EB0C9A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8F1D-D2A4-4BC5-B33C-6160327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BD682-4FAD-4A09-84C6-4FA47207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F0B85-7D02-45AB-91AB-FC7250F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59320-0944-424B-A5D1-77A7CE1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9C8E5-6C5C-4D27-B771-4AF4A91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8BD90-8850-4FF9-B649-4D1F812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A2AED-5056-4857-BA0F-B3673B1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766FB-3BB4-4730-A392-93DC20FE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A68-9906-4F20-B8A4-A1D616F7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0792-219A-40BB-911E-110AF686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D13B0-E21C-405E-A2EB-675832C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B9134-A7F2-4300-8B34-70EBB7AC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028D9-3F20-40AB-85B8-66B38BBB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BA365-07BC-4201-B964-7CE78195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927F0-6B68-49C1-9CFB-556EF342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87F38-C8F6-4503-9CF2-650E1B2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691C8-E62F-4767-9580-CAF8264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F1C1D-D824-4698-B50C-EF2796F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EB0B9-3AC7-4EAA-A8BD-4C15AC5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A9E-1CB7-49EA-AFDD-C7B1E073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1A588-B306-438E-B228-FC804B9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71906-6379-4818-92EA-DE4A88F4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21E10-35A8-4BA1-A1A6-70981AA9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351E2-E3E4-44C8-BE7D-4259A1F3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D374-B2EB-40F7-9DD1-DD27F3C7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52A35-2601-43A5-8B94-A3B72CDF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F8366-976A-4961-B534-7851463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50907-F38B-4CCF-9536-DC832162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F9E27-50FB-412D-BF6E-95330A7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8C9E6-E310-4A9A-995D-76A0110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0364-C5F5-43B6-A903-00FD8DEE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A4026-D746-48D4-9765-CFE52EC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102A6-3D77-48F8-A3CA-E1A12D5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93719-F1CE-4B78-A94C-B07B6C3D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B451C-4685-4A1E-8CC4-3E3FC67A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9FA24-40DC-4302-8130-F8184E3B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4397F-8B47-475E-A3FC-0C70D679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F8DED-0BFF-48D0-8DAA-49DD80B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7878C-299A-424D-9E50-9D678CD9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CFB0A-AB88-4042-8448-C30990C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12FA3-16CD-45DC-B001-83EF8F65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AD81-AFB8-4046-9A99-75F4E7A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BE15A-92CD-454B-8079-9772BB3D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57A3D-D01C-40CA-B539-80D6C71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504BD-C6EA-4B67-91B4-CE571DF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318EC-F594-48AF-85D5-1E7D788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D0021-C1A1-404A-B5A2-D5B62E1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AE45C-F62F-4C68-BB19-95C4A9FD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6851C-2D37-4E87-A974-D207929E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CC8C2-46D5-45A5-B64F-8DD76DC1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20408-FF99-4649-B8D8-97A9E46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7D0F9-98D4-4E46-A286-A930E9C0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7A32-F1AC-46E9-88E7-557E0D7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784A6-0563-4A4B-8553-F7E6BEA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E9F52-E7DF-46A4-96DD-1B41D385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CCCEA-1D9F-4987-9CD0-1A79244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F8A3F-9027-4348-B907-06C7157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9D0F8-3695-44F9-96D7-890654F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08EDC-DC0A-4523-ADF1-2EB8459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DB04B-C162-49AE-879F-2CD98B1F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AB71E-9840-4FB3-A926-D48EB55C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D5C7E-7EF4-4C00-8362-B6EA3AF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129F8-6148-4E9E-A0A2-83A7F71F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3D2-7F3E-4C3A-93AE-5B5C9E1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CF668-ED8F-4251-8A69-FA4E2BC3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94F75-6DB7-4B94-9A18-1958C851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57184-48DB-4389-AB6F-8C66EFA4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7A1EC-AEB1-4C17-952C-AB3BFF22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77AA6-0168-4614-9FFD-3B0EAEA0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38478-3286-4EC4-B054-DAC5B22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84979-EB61-4DA8-A09C-E7F3E55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C5411-97A8-4F51-AA7C-52DEAB8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4E9B6-7465-472B-B74B-BE94CD1F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ADE39-D358-4A2B-A61F-A3C267A1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9D36-5851-4B5D-A045-EB364BEB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8D9BA-574D-4484-94F9-46ADF9B5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84609-42E8-4278-A6F0-CA50AACD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49850-234C-4AC5-90D0-D13A21D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D316E-8E57-4004-B746-30106C95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33F36-370F-48F8-A78A-B37296EA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18AB1-A36A-418B-AFEF-07C6D103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7BD15-FC90-40DC-812E-C98C9BF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50E48-F177-4542-8EDA-D2A28A6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34F56-F4C9-45F8-95C5-0C6A977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0E003-09B4-4F14-B3E8-78918C1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822C-B499-4343-9D29-831AF04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0672E-59EB-4DCB-B758-8B52880B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260D4-8AEC-4AF7-8A2C-C6CED188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29229-30DD-4A8E-B47D-289A5F9E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DE735-9BE8-479E-99E7-5277B676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EB3D7-557E-4221-A7D3-05DDC7FC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B9A3A-0BF4-4352-9B54-B86EC50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A0673A-68B0-41DA-A79B-0E99E6F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BB8CA-76B2-47AD-8E6A-BBCE3C9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52DAB-B5A5-4301-8292-91AD7F4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98C99-0083-4F35-A083-D522562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F33-570C-4633-B7EE-CA04E8A8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81F3-67F3-47E0-992D-6527C27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F653F-0670-4F83-9185-317B393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85FEC-C9A0-4789-AA46-66156A5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82A8E-2F2D-44AC-AE54-245CB495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19035-5B3D-45EB-908F-83A29D7C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5D475-8208-4492-92F1-A71B8983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45D84-8628-4FCA-B8F1-818BA555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1E8B0-210E-4821-8D94-FC8B766C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E9F82-9E85-48C7-9D53-0EE2DD67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9C3B4-2290-48AE-9238-32F27B7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4C997-7C29-4274-BD72-D466DA8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6D8D-CA41-4119-986D-9FC1176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7E681-C673-4296-9706-10962A0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B7277-3C67-446C-A849-3AD5C2B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4D4E7-2D7E-453D-AC0B-3C2C0F7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1A987-E4F3-4A1A-ADA4-C7A9CD5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127E9-EA21-48E8-B77A-A0B75BE6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E8D8D-2D58-4246-BB87-BDA941E9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45542-FAE5-4983-92C7-1B20D296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1E3F-8A7E-4832-B6CC-BBD2C769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1050-6854-461C-B6DD-7023E0F3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ED24-E68B-4045-B201-F2A37E73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097C-144A-49D4-A728-B97724C3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3666-42E0-4282-B18F-A1EDDEDA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1E38-8538-43D8-822D-26A53E5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353E-0292-410C-A1D5-7ED8194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5D0E-73C4-48B4-A432-CD105447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BC3-BFB2-4035-8630-1CB99F27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523F-23D0-4771-8535-28AEFE5B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4670-561C-4CA3-9C57-010709A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86FF-DEFA-4CF1-A799-61C2092B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DF9E-9732-4DF1-B672-6CF2976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4865-BDBD-4D0A-B5C6-ECB1832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0863-8DE2-4C9C-BB51-4BC0B151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9C3E-69FA-4181-BB38-08698356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F7B4-95C4-48B2-B259-376EB015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8D90-F90E-42DD-955A-01F81011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455E-3F67-476D-8C84-F85C6E8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710-BAA4-4DFC-8ACF-983C40B5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E841-5FBB-44D2-83F2-DBB8350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418E-D24D-47CC-9D7A-07ADAFCF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2B8F-71C3-414F-8088-35C1324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5F63-3A49-4E3F-A8F5-E53752B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B529-D5FF-4C1F-8751-84658F50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218B-6461-4F03-A143-66348B4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FC98-94A3-4980-AA8A-7B99BCB0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3239-B911-45ED-AEBC-9D752476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2EB2-AA48-4FEB-94EB-970BEC2F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4F2E-F6C5-495D-AC29-6FD8EBEC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084-A71F-4E01-B6B4-2468440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DA96-B2A1-44D2-8CCA-C64877F7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2FDC-6880-452F-9E2C-4A6DACB0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DD451-07CA-45D5-AD5D-EAA1FD2E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CD29F-5335-4B5A-80EC-F65D85F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F88E-CAAF-40B9-9EEE-E412C55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6EB8-427C-4966-8602-3F84AFD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5CB9-1584-4BD3-B577-2A6C458A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0668-1371-44CA-AE6E-2D14F5D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0E96E-D89D-4B11-B317-BB5575D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F209-884F-4EFB-9822-0103B51C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944-1063-4F11-8FDA-F24F58B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4F0A-89E5-41BA-AF88-112D8EA2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C7A5-1FD2-45A6-B5D2-61CC7727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D7C0-7649-4918-AECE-37758DFF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C321-4428-4EAA-9BF3-9FB32F77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6DE43-66FE-47F2-9AD6-3DF3463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150A-CDBC-439D-8808-2C0C67B5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598AB-55FE-4AC8-ABB7-C7BECF2E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EFA8-A0CC-4EE3-BF7E-80534E9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6094-E125-4B8C-A754-2119DA7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7F1C4-F3FA-401F-AAE7-0B3C4DA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64F-D6EC-4C20-8E53-8CA250B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F4194-8B7F-4C40-91C7-BFF30428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5E504-417A-4AF1-B46E-C36E5C9C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218B-A0A2-44D3-AA13-B73D6CED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7D5EE-B705-411D-AFB0-154C7F3E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53F28-C105-46EC-83B1-50964AF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4734A-334A-4B9E-93EA-F77F49CD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F33CD-0342-4B0C-A169-B634467D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D974-2170-48E0-AA49-C99F8D08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865E-18B2-4D7F-B764-D18049E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45AE9-732F-409D-9B56-744C4C2A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FFF-3543-41F7-9080-4CD689E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C2F7A-049C-4994-A4C7-90A4B037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869E-C58A-49F4-A9F0-7889067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4A1A7-3780-4EF6-BF42-25A6CF3C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1902-263F-4952-BBF0-E12920D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1117-9FD8-4902-98E5-6D9A3E07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C14BF-4B1A-499C-BA98-BC2266B2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BEBAA-85B5-4722-892A-953F3A26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5923-59AE-4F3D-9D7E-725317BF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0B502-C80D-47FF-B11D-7A8F2A8E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47F50-D95D-4CA0-B37B-9B2D831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8BE-89B4-4D34-9CCE-EADC64D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7049-3B4D-4AB1-A3B8-8B08C60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AC94-25A0-4DC1-AA3F-6C0155D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C5FBD-24A5-4DE2-9526-7182ED8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33DEA-A484-4BE1-93CE-9DD741B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5F24A-98A5-40A8-B68A-5DDB85C0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85619-3FAF-4648-8359-AAA1A094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D588-9BCC-4708-9CFE-2ACF52D8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F129E-8A47-4BCC-AC91-DBEB6C4A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3D72A-2B54-4955-9135-BC9CF07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090F9-A5E9-4FC9-8CF6-A903E2C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6A51-FBC5-4709-94BF-DDE62D2B6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11C-B578-4067-B373-14BD8ABA04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5E4-E3BB-4C4D-ABD3-D63F608EE6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1835-7BCD-468B-987A-BC81D0F5C6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0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206-A9A5-4510-B57F-A4CC0B995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8BFF-104F-43CC-B926-4FC3822B56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390B-E7B1-41FC-B5CF-EA41EBDF5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CB6C-4E2F-4287-B9C2-5E8ACFB83A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2A7-2F34-4FB9-AA8D-6780B2EBC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2A4-B195-48AD-96ED-755A53CE7D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CF3F-AAF2-4BAA-854B-5EF621CEB9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1A9F-504B-4CF7-B397-EA0A15BF80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E6CA-1104-4159-8BBC-37B3CA5010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15A3-16C8-4E0E-89FF-483C8A0C0D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6B8F-D01D-488E-8B06-83C70A9996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82F-93A7-4F70-AAC4-298E14A8EC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8814-71A6-4964-B0C7-CB6FB9B12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2C28-0BE6-4823-B415-68C4E1ADB4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w Cen MT"/>
              </a:rPr>
              <a:t>TERMOQUÍMICA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A MAYORÍA DE LOS PROCESOS QUÍMICOS OCURREN A PRESIÓN CONSTANTE, NORMALMENTE LA ATMOSFÉR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P = CT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W =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 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 P ·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           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ENTALPÍ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AutoShape 6"/>
          <p:cNvSpPr/>
          <p:nvPr/>
        </p:nvSpPr>
        <p:spPr>
          <a:xfrm rot="16200000">
            <a:off x="3948840" y="5074200"/>
            <a:ext cx="381240" cy="1439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439640"/>
              <a:gd name="textAreaBottom" fmla="*/ 13960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8"/>
                  <a:pt x="10800" y="2096"/>
                </a:cubicBezTo>
                <a:lnTo>
                  <a:pt x="10800" y="8704"/>
                </a:lnTo>
                <a:cubicBezTo>
                  <a:pt x="10800" y="9752"/>
                  <a:pt x="5400" y="10800"/>
                  <a:pt x="0" y="10800"/>
                </a:cubicBezTo>
                <a:cubicBezTo>
                  <a:pt x="5400" y="10800"/>
                  <a:pt x="10800" y="11848"/>
                  <a:pt x="10800" y="12896"/>
                </a:cubicBezTo>
                <a:lnTo>
                  <a:pt x="10800" y="19504"/>
                </a:lnTo>
                <a:cubicBezTo>
                  <a:pt x="10800" y="2055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7"/>
          <p:cNvSpPr/>
          <p:nvPr/>
        </p:nvSpPr>
        <p:spPr>
          <a:xfrm rot="16200000">
            <a:off x="2215080" y="5064840"/>
            <a:ext cx="378000" cy="1455480"/>
          </a:xfrm>
          <a:custGeom>
            <a:avLst/>
            <a:gdLst>
              <a:gd name="textAreaLeft" fmla="*/ 241560 w 378000"/>
              <a:gd name="textAreaRight" fmla="*/ 378360 w 378000"/>
              <a:gd name="textAreaTop" fmla="*/ 43200 h 1455480"/>
              <a:gd name="textAreaBottom" fmla="*/ 1412280 h 14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8"/>
                  <a:pt x="10800" y="2056"/>
                </a:cubicBezTo>
                <a:lnTo>
                  <a:pt x="10800" y="8744"/>
                </a:lnTo>
                <a:cubicBezTo>
                  <a:pt x="10800" y="9772"/>
                  <a:pt x="5400" y="10800"/>
                  <a:pt x="0" y="10800"/>
                </a:cubicBezTo>
                <a:cubicBezTo>
                  <a:pt x="5400" y="10800"/>
                  <a:pt x="10800" y="11828"/>
                  <a:pt x="10800" y="12856"/>
                </a:cubicBezTo>
                <a:lnTo>
                  <a:pt x="10800" y="19544"/>
                </a:lnTo>
                <a:cubicBezTo>
                  <a:pt x="10800" y="2057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3" dur="1" fill="hold"/>
                                  <p:tgtEl>
                                    <p:spTgt spid="8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54" dur="1" fill="hold"/>
                                  <p:tgtEl>
                                    <p:spTgt spid="8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55" dur="1" fill="hold"/>
                                  <p:tgtEl>
                                    <p:spTgt spid="8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; 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+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1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ES UNA FUNCIÓN DE ESTADO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14" name="Group 32"/>
          <p:cNvGrpSpPr/>
          <p:nvPr/>
        </p:nvGrpSpPr>
        <p:grpSpPr>
          <a:xfrm>
            <a:off x="5372280" y="1369800"/>
            <a:ext cx="3581280" cy="2210040"/>
            <a:chOff x="5372280" y="1369800"/>
            <a:chExt cx="3581280" cy="2210040"/>
          </a:xfrm>
        </p:grpSpPr>
        <p:sp>
          <p:nvSpPr>
            <p:cNvPr id="815" name="Text Box 15"/>
            <p:cNvSpPr/>
            <p:nvPr/>
          </p:nvSpPr>
          <p:spPr>
            <a:xfrm>
              <a:off x="6058080" y="312264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activ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29"/>
            <p:cNvGrpSpPr/>
            <p:nvPr/>
          </p:nvGrpSpPr>
          <p:grpSpPr>
            <a:xfrm>
              <a:off x="5372280" y="1369800"/>
              <a:ext cx="3581280" cy="2210040"/>
              <a:chOff x="5372280" y="1369800"/>
              <a:chExt cx="3581280" cy="2210040"/>
            </a:xfrm>
          </p:grpSpPr>
          <p:sp>
            <p:nvSpPr>
              <p:cNvPr id="817" name="Line 6"/>
              <p:cNvSpPr/>
              <p:nvPr/>
            </p:nvSpPr>
            <p:spPr>
              <a:xfrm flipV="1">
                <a:off x="5905440" y="1522080"/>
                <a:ext cx="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7"/>
              <p:cNvSpPr/>
              <p:nvPr/>
            </p:nvSpPr>
            <p:spPr>
              <a:xfrm>
                <a:off x="5905440" y="3579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8"/>
              <p:cNvSpPr/>
              <p:nvPr/>
            </p:nvSpPr>
            <p:spPr>
              <a:xfrm>
                <a:off x="6134040" y="312264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9"/>
              <p:cNvSpPr/>
              <p:nvPr/>
            </p:nvSpPr>
            <p:spPr>
              <a:xfrm>
                <a:off x="7353360" y="24368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2"/>
              <p:cNvSpPr/>
              <p:nvPr/>
            </p:nvSpPr>
            <p:spPr>
              <a:xfrm rot="16200000">
                <a:off x="4693680" y="204804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16"/>
              <p:cNvSpPr/>
              <p:nvPr/>
            </p:nvSpPr>
            <p:spPr>
              <a:xfrm>
                <a:off x="7201080" y="205596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23"/>
              <p:cNvSpPr/>
              <p:nvPr/>
            </p:nvSpPr>
            <p:spPr>
              <a:xfrm flipV="1">
                <a:off x="6819840" y="2436480"/>
                <a:ext cx="1067040" cy="68580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Text Box 25"/>
              <p:cNvSpPr/>
              <p:nvPr/>
            </p:nvSpPr>
            <p:spPr>
              <a:xfrm>
                <a:off x="7201080" y="289404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g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7"/>
              <p:cNvSpPr/>
              <p:nvPr/>
            </p:nvSpPr>
            <p:spPr>
              <a:xfrm>
                <a:off x="6210360" y="16747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nd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Group 31"/>
          <p:cNvGrpSpPr/>
          <p:nvPr/>
        </p:nvGrpSpPr>
        <p:grpSpPr>
          <a:xfrm>
            <a:off x="5410080" y="3854520"/>
            <a:ext cx="3429000" cy="2133360"/>
            <a:chOff x="5410080" y="3854520"/>
            <a:chExt cx="3429000" cy="2133360"/>
          </a:xfrm>
        </p:grpSpPr>
        <p:sp>
          <p:nvSpPr>
            <p:cNvPr id="827" name="Line 10"/>
            <p:cNvSpPr/>
            <p:nvPr/>
          </p:nvSpPr>
          <p:spPr>
            <a:xfrm flipV="1">
              <a:off x="5867280" y="393012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30"/>
            <p:cNvGrpSpPr/>
            <p:nvPr/>
          </p:nvGrpSpPr>
          <p:grpSpPr>
            <a:xfrm>
              <a:off x="5410080" y="3854520"/>
              <a:ext cx="3429000" cy="2133360"/>
              <a:chOff x="5410080" y="3854520"/>
              <a:chExt cx="3429000" cy="2133360"/>
            </a:xfrm>
          </p:grpSpPr>
          <p:sp>
            <p:nvSpPr>
              <p:cNvPr id="829" name="Line 11"/>
              <p:cNvSpPr/>
              <p:nvPr/>
            </p:nvSpPr>
            <p:spPr>
              <a:xfrm>
                <a:off x="5867280" y="598788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Text Box 14"/>
              <p:cNvSpPr/>
              <p:nvPr/>
            </p:nvSpPr>
            <p:spPr>
              <a:xfrm rot="16200000">
                <a:off x="4731480" y="46083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18"/>
              <p:cNvSpPr/>
              <p:nvPr/>
            </p:nvSpPr>
            <p:spPr>
              <a:xfrm>
                <a:off x="6019560" y="41590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eactiv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0"/>
              <p:cNvSpPr/>
              <p:nvPr/>
            </p:nvSpPr>
            <p:spPr>
              <a:xfrm>
                <a:off x="7315200" y="54547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>
                <a:off x="6095880" y="461628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2"/>
              <p:cNvSpPr/>
              <p:nvPr/>
            </p:nvSpPr>
            <p:spPr>
              <a:xfrm>
                <a:off x="7391160" y="53784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>
                <a:off x="6629400" y="4616280"/>
                <a:ext cx="1295280" cy="76212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6"/>
              <p:cNvSpPr/>
              <p:nvPr/>
            </p:nvSpPr>
            <p:spPr>
              <a:xfrm>
                <a:off x="7391160" y="44640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l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28"/>
              <p:cNvSpPr/>
              <p:nvPr/>
            </p:nvSpPr>
            <p:spPr>
              <a:xfrm>
                <a:off x="6476760" y="38545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x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Rectangle 33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GASES)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2133360"/>
            <a:ext cx="777240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 algn="ctr">
              <a:lnSpc>
                <a:spcPct val="120000"/>
              </a:lnSpc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P ·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V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APLICANDO LA ECUACIÓN DE LOS GASES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P · V =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Y SI P Y T SON CONSTANTES LA ECUACIÓN SE CUMPLIRÁ PARA LOS ESTADOS INICIAL Y FINAL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V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N · R · 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SÓLIDOS Y LÍQUIDO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DE SÓLIDOS Y LÍQUIDOS APENAS SE PRODUCE VARIACIÓN DE VOLUMEN Y 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V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ES DECI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U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2fa3ee"/>
                </a:solidFill>
                <a:uFillTx/>
                <a:latin typeface="Tw Cen MT"/>
              </a:rPr>
              <a:t>EJERCICIO A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EN TERMOQUÍMICA EL VALOR DE R SUELE TOMARSE EN UNIDADES DEL SISTEMA INTERNACIONAL. YA SABES QUE R = 0,082 ATM·L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. DETERMINA EL VALOR DE  R EN EL S.I CON SUS UNIDAD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 = D G H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 ATM = 13546 KG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3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9,8 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0,76 M =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0900 K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Object 6"/>
          <p:cNvGraphicFramePr/>
          <p:nvPr/>
        </p:nvGraphicFramePr>
        <p:xfrm>
          <a:off x="0" y="414972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972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TERMINAR LA VARIACIÓN DE ENERGÍA INTERNA PARA EL PROCESO DE COMBUSTIÓN DE 1 MOL DE PROPANO A 25ºC Y 1 ATM, SI LA VARIACIÓN DE ENTALPÍA, EN ESTAS CONDICIONES, VALE – 2219,8 KJ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5 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4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 (L)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= –2219,8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1+5 = 6 ;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3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= –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DESPEJANDO EN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U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· R · T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219 KJ + 3 MOL · (8,3 J/MOL.K) · 298 K = –22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U</a:t>
            </a: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 =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212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Rectangle 1028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5028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w Cen MT"/>
              </a:rPr>
              <a:t>ENTALPÍA ESTÁNDAR DE LA REAC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9640" y="170028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E EXPRESA COMO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83319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683319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Y COMO SE MIDE EN J O KJ DEPENDE DE CÓMO SE AJUSTE LA  REACCIÓN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ASÍ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DE LA REACCIÓN “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 ES EL DOBLE DEL DE “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½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RODUCTOS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Rectangle 1028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PRESAN TANTO LOS REACTIVOS COMO LOS PRODUCTOS INDICANDO ENTRE PARÉNTESIS SU ESTADO FÍSICO, Y A CONTINUACIÓN LA VARIACIÓN ENERGÉTICA EXPRESAD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(HABITUALMENTE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890 KJ</a:t>
            </a:r>
            <a:br>
              <a:rPr sz="24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G);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w Cen MT"/>
              </a:rPr>
              <a:t>¡CUIDADO!:</a:t>
            </a:r>
            <a:r>
              <a:rPr b="0" lang="es-ES_tradnl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DEPENDE DEL NÚMERO DE MOLES QUE SE FORMAN O PRODUCEN. POR TANTO, SI SE AJUSTA PONIENDO COEFICIENTES DOBLES, HABRÁ QUE MULTIPLIC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POR 2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2· (–241’4 KJ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 FRECUENCIA, SUELEN USARSE COEFICIENTES FRACCIONARIOS PARA AJUSTAR LAS ECUACION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TALPÍA ESTÁNDAR DE FORMACIÓN (CALOR DE FORMACIÓN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EL INCREMENTO ENTÁLPICO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) QUE SE PRODUCE EN LA REACCIÓN DE FORMACIÓN DE </a:t>
            </a:r>
            <a:r>
              <a:rPr b="1" lang="es-ES_tradnl" sz="2000" spc="-1" strike="noStrike" u="sng">
                <a:solidFill>
                  <a:srgbClr val="af7823"/>
                </a:solidFill>
                <a:uFillTx/>
                <a:latin typeface="Tw Cen MT"/>
              </a:rPr>
              <a:t>UN MOL</a:t>
            </a:r>
            <a:r>
              <a:rPr b="0" lang="es-ES_tradnl" sz="2000" spc="-1" strike="noStrike">
                <a:solidFill>
                  <a:srgbClr val="af7823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DE UN DETERMINADO COMPUESTO A PARTIR DE LOS ELEMENTOS EN ESTADO FÍSICO NORMAL (EN CONDICIONES ESTÁNDAR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EXPRES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 TRATA DE UN “CALOR MOLAR”, ES DECIR, EL COCIENTE ENT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EL NÚMERO DE MOLES FORMADOS DE PRODUCT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POR TANTO, SE MIDE EN KJ/MO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(S) +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393’13 KJ/MO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285’8 KJ/M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241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1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533520" y="914400"/>
            <a:ext cx="727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, ESTADOS Y FUNCIONES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2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IM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INTERNA Y ENTALPÍA. REACCIONES A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 Y A PRESIÓN CONSTANT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LACIÓN ENTRE AMB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CUACIONES TERMOQUÍMIC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5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FORMACIÓN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6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S ENTALPÍAS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7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EY DE H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CALOR DE REACCIÓN)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PLICANDO LA LEY DE HESS PODEMOS CONCLUIR QUE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CUERDA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TODOS LOS ELEMENTOS EN ESTADO ORIGINAL ES 0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Comment 5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A REACCIÓN DE COMBUSTIÓN DEL BUTANO E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PRODUCT.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REACTIVOS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4 MOL(– 393’5 KJ/MOL) + 5 MOL(– 285’8 KJ/MOL)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1 MOL(– 124’7 KJ/MOL) = – 2878’3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LA ENTALPÍA ESTÁNDAR DE COMBUSTIÓN SERÁ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USTIÓN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878’3 KJ/MO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H EN UNA REACCIÓN QUÍMICA ES CONSTANTE CON INDEPENDENCIA DE QUE LA REACCIÓN SE PRODUZCA EN UNA O MÁS ETAPA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RECUERDA QUE H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OR TANTO, SI UNA ECUACIÓN QUÍMICA SE PUEDE EXPRESAR COMO COMBINACIÓN LINEAL DE OTRAS, PODREMOS IGUALMENT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LA REACCIÓN GLOBAL COMBINANDO L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CADA UNA DE LAS REACCION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Comment 4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9806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ADAS LAS REACCIONES</a:t>
            </a:r>
            <a:br>
              <a:rPr sz="2500"/>
            </a:b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1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41’8 KJ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 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R LA ENTALPÍA DE VAPORIZACIÓN DEL AGUA EN CONDICIONES ESTÁNDAR.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761760" y="263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VAPORIZACIÓN ES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(2), LUEG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41’8 KJ – (–285’8 KJ) = 44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VAPORIZACIÓN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44 KJ /MO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Rectangle 1028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QUEMA DE LA 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Line 4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7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3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4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6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41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0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85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1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s-ES_tradnl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3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4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5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6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B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I UTILIZAMOS LA LEY DE HESS, LA REACCIÓN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4)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UEDE OBTENERSE A PARTIR D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1)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2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(S) +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393’5 KJ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3)  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124’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= 4 · (2) + 5 · 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(S) + 4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5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/2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+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4 MOL(–393’5 KJ/MOL) + 5 MOL(–285’8 KJ/MOL) –1 MOL(– 124’7 KJ/MOL) =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2878’3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Line 4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8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898" name="Line 5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6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7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7080" y="720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1" lang="es-ES_tradnl" sz="29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TIR DE LOS CALORES DE REACCIÓN DE LAS SIGUIENTES REACCIONES QUÍMICAS: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1) 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 C(S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393’13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3)  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3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1422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55280" y="393336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ORMACIÓN DEL ETENO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A PARTIR DE SUS CONSTITUYENTES EN ESTADO NORMAL E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SE PUEDE EXPRESAR COMO 2·(2) + 2·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PARTIR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 LOS CALORES DE REACCIÓN DE LAS SIGUIENTES REACCIONES QUÍMICA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1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1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285’8 KJ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2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(S) +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393’13 KJ</a:t>
            </a:r>
            <a:br>
              <a:rPr sz="2400"/>
            </a:b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3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4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3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2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2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1422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 = 2·(2) + 2·(1) – (3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+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2 · (–393’13 KJ) + 2 · (– 285’8 KJ) – (– 1422 KJ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64’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S DECIR   </a:t>
            </a: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1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 (ETENO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64’14 KJ/MOL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 TRATA, PUES, DE UNA REACCIÓN ENDOTÉRM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2fa3ee"/>
                </a:solidFill>
                <a:uFillTx/>
                <a:latin typeface="Tw Cen MT"/>
              </a:rPr>
              <a:t>EJERCICIO D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LAS ENTALPÍAS DE COMBUSTIÓN DE LA GLUCOSA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  Y DEL ETANOL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H) SON –2815 KJ/MOL Y –1372 KJ/MOL, RESPECTIVAMENTE. CON ESTOS DATOS DETERMINA LA ENERGÍA INTERCAMBIADA EN LA FERMENTA– CIÓN DE UN MOL DE GLUCOSA, REACCIÓN EN LA QUE SE PRODUCE ETANOL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. ¿ES EXOTÉRMICA LA REACCIÓN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0880" y="2205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S REACCIONES DE COMBUSTIÓN SON, RESPECTIVAMENT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1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6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6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6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2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 3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3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1372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ERMENTACIÓN DE LA GLUCOSA ES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2· (2), LUEG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·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 – 2· (– 1372 KJ) =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71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LA REACCIÓN 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EXOTÉRM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DE ENLACE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“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S LA ENERGÍA NECESARIA PARA ROMPER UN ENLACE DE UN MOL DE SUSTANCIA EN ESTADO GASEOSO</a:t>
            </a: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EL CASO DE MOLÉCULAS DIATÓMICAS ES IGUAL QUE LA ENERGÍA DE DISOCIACIÓ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—B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A(G) + B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DI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LAC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H(G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= 436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POSITIVA (ES NECESARIO APORTAR ENERGÍA AL SISTEM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DIFÍCIL DE MEDI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SUELE CALCULAR APLICANDO LA LEY DE H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39280" y="990720"/>
            <a:ext cx="7566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O ENTALPÍA DE ENLACE DE ENLACE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1.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 ENERGÍA DE REACCIÓN A PARTIR DE ENTALPÍAS DE ENLACE APLICANDO LA LEY DE HES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ROPÍ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1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SEGUNDO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2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TERC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0.-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LIBRE DE GIBB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1.-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INFLUENCIA DE LA TEMPERATU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R LA ENERGÍA DEL ENLACE H—CL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EN EL CLORURO DE HIDRÓGENO CONOCIENDO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HCL) CUYO VALOR ES –92,3 KJ/MOL Y LAS ENTALPÍAS DE DISOCIACIÓN DEL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Y DEL CL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QUE SON 436,0 KJ/MOL Y 243,4 KJ/MOL, RESPECTIVAMENTE.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LA REACCIÓN DE DISOCIACIÓN DEL HCL SERÁ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HCL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(G) + 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1) ½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+ ½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CL(G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92,3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H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43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3) 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243,4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= –(1) +  ½(2) +  ½(3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(– 92,3 KJ ) + ½(436,0 KJ) +  ½(243,4 KJ) == 432,0 KJ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(HCL)  =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 432,0 KJ/MO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A PARTIR DE LA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ENERGÍA DE ENLAC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(DISOCIACIÓN)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2736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PLICANDO LA LEY DE HESS EN CUALQUIER CASO SE OBTIENE LA SIGUIENTE FÓRMUL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ROTOS)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FORMAD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DONDE NI  REPRESENTA EL NÚMERO DE ENLACES ROTOS Y FORMADOS DE CADA TIP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mment 5"/>
          <p:cNvSpPr/>
          <p:nvPr/>
        </p:nvSpPr>
        <p:spPr>
          <a:xfrm rot="2091600">
            <a:off x="7057440" y="139608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8908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611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347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413 Y H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436, CALCULAR EL VALOR 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DE LA REACCIÓN DE HIDROGENACIÓN DEL ETE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57200" y="227628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REACCIÓN: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ROTOS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FORMADOS)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=C) + 1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H–H) –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C) – 2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H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 MOL · 611 KJ/MOL + 1MOL · 436 KJ/MOL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(1 MOL · 347 KJ/MOL + 2 MOL · 413 KJ/MOL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126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ff9900"/>
                </a:solidFill>
                <a:uFillTx/>
                <a:latin typeface="Tw Cen MT"/>
              </a:rPr>
              <a:t>EJERCICIO E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 EL CALOR DE COMBUSTIÓN DE PROPANO 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A PARTIR DE LOS DATOS DE ENERGÍA DE ENLACE DE LA TABLA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155160" y="177300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+ 5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+ 4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ROTOS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8 C–H, 2 C–C Y 5 O=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FORMADO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6 C=O Y 8 O–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ROTOS) –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FORM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H) + 2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C) +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5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=O) – [6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=O) +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–H)]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·413 KJ + 2·347 KJ +5·499 KJ – (6·745 KJ + 8·460 KJ) = –165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) = </a:t>
            </a:r>
            <a:r>
              <a:rPr b="1" lang="es-ES_tradnl" sz="1800" spc="-1" strike="noStrike">
                <a:solidFill>
                  <a:srgbClr val="355071"/>
                </a:solidFill>
                <a:latin typeface="Tw Cen MT"/>
              </a:rPr>
              <a:t>–1657 KJ/M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6477120" y="361800"/>
          <a:ext cx="2666880" cy="475488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24" name="Rectangle 651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NTROPÍA (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755280" y="1773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UNA MEDIDA DEL DESORDEN DEL SISTEMA QUE SÍ PUEDE MEDIRSE Y TABULARS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IN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NICI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ISTEN TABLAS DE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(ENTROPÍA MOLAR ESTÁNDAR) DE DIFERENTES SUSTANCIA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UNA REACCIÓN QUÍMIC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ENTROPÍA ES UNA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1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6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1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1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6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6" dur="500"/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A LAS SIGUIENTES REACCIONES QUÍMICAS: </a:t>
            </a: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O(G); </a:t>
            </a: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3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. </a:t>
            </a:r>
            <a:br>
              <a:rPr sz="2500"/>
            </a:b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Tw Cen MT"/>
              </a:rPr>
              <a:t>DATOS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J·MOL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: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30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;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91,5; NO(G) = 210,7;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192,3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 MOL · 210,7 J 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191,5 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 20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24,9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·192,3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3 MOL ·130,6 J· 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191,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–198,7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7029360" y="477036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SEGUNDO PRINCIPIO DE LA TERMODINÁMICA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UALQUIER PROCESO ESPONTÁNEO LA ENTROPÍA TOTAL DEL UNIVERSO TIENDE A AUMENTAR SIEMPRE”.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 VECES EL SISTEMA PIERDE ENTROPÍA (SE ORDENA) ESPONTÁNEAMENTE. EN DICHOS CASOS EL ENTORNO SE DESORD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2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7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2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TERC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42960" y="192888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LA ENTROPÍA DE CUALQUIER SUSTANCIA A 0 K ES IGUAL A 0” (MÁXIMO ORDEN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EQUIVALE A DECIR QUE NO SE PUEDE BAJAR DE DICHA TEMPERATURA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Tw Cen MT"/>
              </a:rPr>
              <a:t>¡CUIDADO! </a:t>
            </a: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LAS S DE LOS ELEMENTOS EN CONDICIONES ESTÁNDAR NO SON 0 SINO QUE ES POSITIVA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LA S DEPENDE DE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ESTADO DE LA SUSTANCIA S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Tw Cen MT"/>
              </a:rPr>
              <a:t>GAS</a:t>
            </a: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 &gt;S 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Tw Cen MT"/>
              </a:rPr>
              <a:t>LÍQUIDO</a:t>
            </a: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 &gt; S 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Tw Cen MT"/>
              </a:rPr>
              <a:t>SÓLIDO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COMPLEJIDAD (Nº DE ENLACES DE LA MOLÉCULA) A MÁS ENLACES, MAYOR 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CON MOLÉCULAS SIMILARES, A ENLACES MÁS DÉBILES, MAYOR 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CON MASAS MOLECULARES SIMILARES, MAYOR S SI HAY MÁS ÁTOMO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OCESOS REVERSIBLE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Y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TEMPERATURA CONSTANTE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PUED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DE UN SISTEMA COMO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—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SI EL PROCESO QUÍMICO SE PRODUCE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ESIÓN CONSTANT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 ——— 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————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        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TROPÍA MOLAR ESTÁNDAR)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J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CIÓ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DE GIBBS (G)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(ENERGÍA LIBRE O ENTALPÍA LIBRE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5360" y="2387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A T CONSTANTE SE DEFINE COM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H – T · 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: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– T·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&gt; 0 (P. ESPONTÁNE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ULTIPLICANDO POR “–T” Y COMO “–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ESPONTÁNEOS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&gt; 0   LA REACCIÓN NO ES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0 EL SISTEMA ESTÁ EN EQUILIBR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4912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ARTE PEQUEÑA DEL UNIVERSO QUE SE AÍSLA PARA SOMETER A ESTUDI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L RESTO SE DENOMINA </a:t>
            </a: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ENTOR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UEDEN SE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BIERTOS (INTERCAMBIA MATERIA Y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ERRADOS (NO INTERCAMBIA MATERIA Y SÍ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ISLADOS (NO INTERCAMBIA NI MATERIA NI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QUÍMICAS..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 = SUSTANCIAS QUÍMIC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" dur="1" fill="hold"/>
                                  <p:tgtEl>
                                    <p:spTgt spid="7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INCREMENTO DE ENERGÍA LIBRE DE UNA REACCIÓN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G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74640" y="2421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 ES UNA FUNCIÓN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L IGUAL QUE EL INCREMENTO ENTÁLPICO EL INCREMENTO DE ENERGÍA LIBRE DE UNA REACCIÓN PUEDE OBTENERSE A PARTIR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REACTIVOS Y PRODUCT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Rectangle 1028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Y 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DE LAS REACCIONES 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REAC.  NO ESPONTÁNE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7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9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3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g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9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0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1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3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24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l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Reac.   espontáne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41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 LAS REACCIONES QUÍMICAS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NO SIEMPRE LAS REACCIONES EXOTÉRMICAS SON ESPONTÁNEA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HAY REACCIONES ENDOTÉRMICAS ESPONTÁNEA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EVAPORACIÓN DE LÍQUIDO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DISOLUCIÓN DE SALES..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EJEMPLOS DE REACCIONES ENDOTÉRMICAS ESPONTÁNEA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L(S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AQ) + CL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(AQ)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4’7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44’0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1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9" dur="500"/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" dur="500"/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7" dur="500"/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UNA REACCIÓN ES ESPONTÁNEA CUAN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G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 – T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)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ES NEGATIV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GÚN SEAN POSITIVOS O NEGATIVOS LOS VALORES D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SIEMPRE ES POSITIVA) SE CUMPLIRÁ QUE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ESPONTÁNE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NO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BAJ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AL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ALTA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BAJ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49440" y="355680"/>
            <a:ext cx="7773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Line 4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5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alt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odas las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10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baj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No Espontánea  a  cualquier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Comment 19"/>
          <p:cNvSpPr/>
          <p:nvPr/>
        </p:nvSpPr>
        <p:spPr>
          <a:xfrm rot="2091600">
            <a:off x="6982920" y="52452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¿SERÁ O NO ESPONTÁNEA LA SIGUIENTE REACCIÓN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</a:t>
            </a:r>
            <a:r>
              <a:rPr b="0" lang="es-ES_tradnl" sz="29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 + 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? DATOS: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KJ/MOL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285,8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187,8 ; 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J·MOL 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·1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69,9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109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,0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REACTIVOS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–285,8 KJ/MOL) – 2 MOL(–187,8 KJ/MOL)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–19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69,9 J/MOL·K) + 1 MOL(205, J/MOL·K)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2MOL(109,6 J/MOL·K) = 126,0 J / K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0,126 KJ / 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T ·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–196,0 KJ – 298 K · 0,126 KJ/ K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2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G</a:t>
            </a:r>
            <a:r>
              <a:rPr b="1" lang="es-ES_tradnl" sz="22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= – 233,5 KJ   LUEGO SERÁ ESPONTÁN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DEFINICIÓN DE TERMOQUÍMICA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5800" y="206064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LA PARTE DE LA QUÍMICA QUE SE ENCARGA DEL ESTUDIO DEL INTERCAMBIO ENERGÉTICO DE UN SISTEMA QUÍMICO CON EL EXTERIO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AY SISTEMAS QUÍMICOS QUE EVOLUCIONAN DE REACTIVOS A PRODUCTOS DESPRENDIE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X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TROS SISTEMAS QUÍMICOS EVOLUCIONAN DE REACTIVOS A PRODUCTOS PRECISA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ND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VARIABLES DE ESTADO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MAGNITUDES QUE PUEDEN VARIAR A LO LARGO DE UN PROCESO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(POR EJEMPLO, EN EL TRANSCURSO DE UNA REACCIÓN QUÍMICA)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83319"/>
                </a:solidFill>
                <a:uFillTx/>
                <a:latin typeface="Tw Cen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TEMPERATUR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CENTRACIÓ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" dur="20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7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7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3" dur="1" fill="hold"/>
                                  <p:tgtEl>
                                    <p:spTgt spid="7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4" dur="1" fill="hold"/>
                                  <p:tgtEl>
                                    <p:spTgt spid="7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95" dur="1" fill="hold"/>
                                  <p:tgtEl>
                                    <p:spTgt spid="7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FUNCIONES DE ESTAD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IENEN U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VALOR ÚNIC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PARA CADA ESTADO DEL SISTE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U VARIACIÓN SOLO DEPEND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DEL ESTADO INICIAL Y FINAL Y NO DEL CAMINO DESARROLLAD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SÍ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PRESIÓN, TEMPERATURA, ENERGÍA INTERNA, ENTALPÍ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NO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CALOR, TRABAJ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7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83319"/>
                </a:solidFill>
                <a:latin typeface="Tw Cen MT"/>
              </a:rPr>
              <a:t>PRIM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3600" y="23018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NERGÍA INTERNA (U)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ES LA ENERGÍA TOTAL 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DEL SISTEMA.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ES IMPOSIBLE MEDI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SU VARIACIÓN SÍ SE MID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                </a:t>
            </a:r>
            <a:r>
              <a:rPr b="1" lang="es-ES_tradnl" sz="20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= Q + 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Q Y W &gt; 0 SI SE REALIZAN A FAVOR DEL SISTE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94" name="Group 17"/>
          <p:cNvGrpSpPr/>
          <p:nvPr/>
        </p:nvGrpSpPr>
        <p:grpSpPr>
          <a:xfrm>
            <a:off x="4295880" y="2362320"/>
            <a:ext cx="4848120" cy="2005560"/>
            <a:chOff x="4295880" y="2362320"/>
            <a:chExt cx="4848120" cy="2005560"/>
          </a:xfrm>
        </p:grpSpPr>
        <p:sp>
          <p:nvSpPr>
            <p:cNvPr id="795" name="Rectangle 4"/>
            <p:cNvSpPr/>
            <p:nvPr/>
          </p:nvSpPr>
          <p:spPr>
            <a:xfrm>
              <a:off x="5638680" y="2362320"/>
              <a:ext cx="2286000" cy="1981080"/>
            </a:xfrm>
            <a:prstGeom prst="rect">
              <a:avLst/>
            </a:prstGeom>
            <a:solidFill>
              <a:srgbClr val="f0d7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>
              <a:off x="457200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7"/>
            <p:cNvSpPr/>
            <p:nvPr/>
          </p:nvSpPr>
          <p:spPr>
            <a:xfrm>
              <a:off x="723888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9"/>
            <p:cNvSpPr/>
            <p:nvPr/>
          </p:nvSpPr>
          <p:spPr>
            <a:xfrm flipH="1">
              <a:off x="4647960" y="3886200"/>
              <a:ext cx="152388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0"/>
            <p:cNvSpPr/>
            <p:nvPr/>
          </p:nvSpPr>
          <p:spPr>
            <a:xfrm flipH="1">
              <a:off x="7238520" y="388620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WordArt 11"/>
            <p:cNvSpPr txBox="1"/>
            <p:nvPr/>
          </p:nvSpPr>
          <p:spPr>
            <a:xfrm>
              <a:off x="5715000" y="3200400"/>
              <a:ext cx="20667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83319"/>
                  </a:solidFill>
                  <a:latin typeface="Arial Black"/>
                </a:rPr>
                <a:t>SISTEMA</a:t>
              </a:r>
              <a:endParaRPr b="1" lang="en-US" sz="2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331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Text Box 12"/>
            <p:cNvSpPr/>
            <p:nvPr/>
          </p:nvSpPr>
          <p:spPr>
            <a:xfrm>
              <a:off x="4295880" y="245268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4"/>
            <p:cNvSpPr/>
            <p:nvPr/>
          </p:nvSpPr>
          <p:spPr>
            <a:xfrm>
              <a:off x="7772400" y="2514600"/>
              <a:ext cx="1143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l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15"/>
            <p:cNvSpPr/>
            <p:nvPr/>
          </p:nvSpPr>
          <p:spPr>
            <a:xfrm>
              <a:off x="4324320" y="345924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lt;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7696080" y="350532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" dur="20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7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0560" y="619200"/>
            <a:ext cx="87138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76000" y="2565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ES EL INTERCAMBIO DE ENERGÍA EN UN RECIPIENTE CERRADO QUE NO CAMBIA DE VOLUME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V= CONSTANTE, ES DECIR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 = 0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W = 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V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dc:language>en-US</dc:language>
  <cp:lastModifiedBy>Usuario</cp:lastModifiedBy>
  <cp:lastPrinted>1998-10-08T09:53:56Z</cp:lastPrinted>
  <dcterms:modified xsi:type="dcterms:W3CDTF">2016-10-13T10:25:42Z</dcterms:modified>
  <cp:revision>117</cp:revision>
  <dc:subject/>
  <dc:title>TERMOQUÍMICA</dc:title>
</cp:coreProperties>
</file>